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6.gif" ContentType="image/gif"/>
  <Override PartName="/ppt/media/image25.jpeg" ContentType="image/jpeg"/>
  <Override PartName="/ppt/media/image2.png" ContentType="image/png"/>
  <Override PartName="/ppt/media/apert2.wav" ContentType="audio/x-wav"/>
  <Override PartName="/ppt/media/image10.jpeg" ContentType="image/jpeg"/>
  <Override PartName="/ppt/media/image5.png" ContentType="image/png"/>
  <Override PartName="/ppt/media/image4.jpeg" ContentType="image/jpeg"/>
  <Override PartName="/ppt/media/image8.wmf" ContentType="image/x-wmf"/>
  <Override PartName="/ppt/media/image12.jpeg" ContentType="image/jpeg"/>
  <Override PartName="/ppt/media/image20.gif" ContentType="image/gif"/>
  <Override PartName="/ppt/media/image13.png" ContentType="image/png"/>
  <Override PartName="/ppt/media/image7.gif" ContentType="image/gif"/>
  <Override PartName="/ppt/media/image3.png" ContentType="image/png"/>
  <Override PartName="/ppt/media/image26.png" ContentType="image/png"/>
  <Override PartName="/ppt/media/image29.gif" ContentType="image/gif"/>
  <Override PartName="/ppt/media/image30.gif" ContentType="image/gif"/>
  <Override PartName="/ppt/media/image14.jpeg" ContentType="image/jpeg"/>
  <Override PartName="/ppt/media/image28.gif" ContentType="image/gif"/>
  <Override PartName="/ppt/media/image31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15.png" ContentType="image/png"/>
  <Override PartName="/ppt/media/image2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312-AB15-4EDC-B402-4227833D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3908-3A5A-4A9C-A5BE-AA98C10D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A595-A3CD-4341-B57D-1EBF5218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948C-B4FA-4EEF-AE5C-FDDD0EA2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5961-0390-4750-94C2-A9C09888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204F-7CA2-4CFD-9FD8-940F4E03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2D77-6728-4C3D-8636-70132D46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D053-96F7-4F22-B281-B18F1B75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1AB1-4AC9-4BD4-BD0F-F51F21E8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D6EC-E526-4A7D-B181-179783A7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610C-0D43-4F48-AD01-7E938E65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C3F-61BE-4E80-BA0E-CE73D710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CC44-8059-48DA-A246-6D034880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57C8-C083-495B-80AE-C5425D28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438E-D705-4813-A043-9325B237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8FF6-C1E7-466B-A9A5-CC35AE21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AE27-C491-4F9F-A59B-04DC2CC6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D7CFC-1B32-405E-A654-CB2AAFF5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3EBAC-409D-4802-9C6A-3BFA8732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F9EAF-DAE5-480A-B0C6-F61DCB2E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42E4A-C23A-4FD9-B7EA-B51A5166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B3DB0-298D-477F-AF20-7748652B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893E-B3F8-457F-BBA5-92E86719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CFF9B-FCE8-4211-AA11-DF17D943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1C72E-8D36-41E4-AC1B-01F722BF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53F72-7206-447D-AD37-24691F16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11429-C29E-4543-89BD-4EF2103D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4700E-85CE-4AFB-AD17-3FD2C076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FDCA0-5BFB-4EF9-BFF9-47BE8EB9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E6520-0B9B-4F7F-9196-B63ABD10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CBC64-4F22-43C0-A6C3-8A7E3751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4B516-2FB4-4BB0-A175-2B175EC1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4C8BA-CF31-4083-BC3F-941688DF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874E-C7F4-41D2-B240-69B69EF2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C2977-BFF7-46BF-8F83-6B025ED3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6CB83-2F38-4B69-90EA-42FA224F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DEF2B-15BE-4689-94CA-E8DA02E5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AF1D2-5B7C-458C-896E-6BC16157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6463D-84FE-4EE9-862B-981DBFDC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B1D67-4BB3-4319-AB87-42D56444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4B694-4324-476D-96DE-25E7788B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1391F-BAA0-43EB-AAA3-11182056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621FC-886B-41CC-A87C-4298A7E2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9E8-86D9-4425-AA22-E912066B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C00E-676D-48E4-BAF5-48084E59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0F8C-C461-482C-BA8D-E28D76CF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DFBB-E51E-4CE4-BD1E-53D4BC4B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3ED7-846C-42E2-8118-47B277CB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45c75"/>
                </a:solidFill>
                <a:latin typeface="Arial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EFE0B2-B211-435D-AB11-BA7343F0501F}" type="slidenum">
              <a:rPr b="0" lang="en-GB" sz="1200" spc="-1" strike="noStrike">
                <a:solidFill>
                  <a:srgbClr val="045c75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1eaee"/>
                </a:solidFill>
                <a:latin typeface="Arial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5AA47E-C084-43EA-80BF-0334A4BE5F1E}" type="slidenum">
              <a:rPr b="0" lang="en-GB" sz="1200" spc="-1" strike="noStrike">
                <a:solidFill>
                  <a:srgbClr val="d1eaee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1eaee"/>
                </a:solidFill>
                <a:latin typeface="Arial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CFD849-2BD5-4064-A6C0-64D7D0540F7C}" type="slidenum">
              <a:rPr b="0" lang="en-GB" sz="1200" spc="-1" strike="noStrike">
                <a:solidFill>
                  <a:srgbClr val="d1eaee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45c75"/>
                </a:solidFill>
                <a:latin typeface="Arial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F7F9C9-5E59-4B7E-9964-8C594F6B603B}" type="slidenum">
              <a:rPr b="0" lang="en-GB" sz="1200" spc="-1" strike="noStrike">
                <a:solidFill>
                  <a:srgbClr val="045c75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audio" Target="../media/apert2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2d700"/>
                </a:solidFill>
                <a:latin typeface="Times New Roman"/>
              </a:rPr>
              <a:t>THE</a:t>
            </a:r>
            <a:r>
              <a:rPr b="1" lang="en-US" sz="5000" spc="-1" strike="noStrike">
                <a:solidFill>
                  <a:srgbClr val="e2d700"/>
                </a:solidFill>
                <a:latin typeface="Calibri"/>
              </a:rPr>
              <a:t> </a:t>
            </a:r>
            <a:r>
              <a:rPr b="1" lang="en-US" sz="5000" spc="-1" strike="noStrike">
                <a:solidFill>
                  <a:srgbClr val="e2d700"/>
                </a:solidFill>
                <a:latin typeface="Times New Roman"/>
              </a:rPr>
              <a:t>WATER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1" lang="en-US" sz="4800" spc="-1" strike="noStrike">
                <a:solidFill>
                  <a:srgbClr val="e2d700"/>
                </a:solidFill>
                <a:latin typeface="Times New Roman"/>
              </a:rPr>
              <a:t>ENVIRONMENT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 rot="20922600">
            <a:off x="785880" y="3112560"/>
            <a:ext cx="3174840" cy="3124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585000">
            <a:off x="4731840" y="3265560"/>
            <a:ext cx="36036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LGA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THE LAKE IN DOJRAN IS CURATIVE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10008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LGAE CURE THE PEO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9a956"/>
                </a:solidFill>
                <a:latin typeface="Times New Roman"/>
              </a:rPr>
              <a:t>ANIMAL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 flipH="1" rot="10057800">
            <a:off x="393480" y="2286000"/>
            <a:ext cx="4030560" cy="3446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DELFIN.jpg"/>
          <p:cNvPicPr/>
          <p:nvPr/>
        </p:nvPicPr>
        <p:blipFill>
          <a:blip r:embed="rId2"/>
          <a:stretch/>
        </p:blipFill>
        <p:spPr>
          <a:xfrm rot="406200">
            <a:off x="4638600" y="2151000"/>
            <a:ext cx="40006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mk-MK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k-MK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3" name="Picture 6" descr="meduza.jpg"/>
          <p:cNvPicPr/>
          <p:nvPr/>
        </p:nvPicPr>
        <p:blipFill>
          <a:blip r:embed="rId1"/>
          <a:stretch/>
        </p:blipFill>
        <p:spPr>
          <a:xfrm>
            <a:off x="4357800" y="500040"/>
            <a:ext cx="4286160" cy="3076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dzvezda.JPG"/>
          <p:cNvPicPr/>
          <p:nvPr/>
        </p:nvPicPr>
        <p:blipFill>
          <a:blip r:embed="rId2"/>
          <a:stretch/>
        </p:blipFill>
        <p:spPr>
          <a:xfrm rot="20467800">
            <a:off x="387360" y="774360"/>
            <a:ext cx="4203720" cy="3098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zelka.jpg"/>
          <p:cNvPicPr/>
          <p:nvPr/>
        </p:nvPicPr>
        <p:blipFill>
          <a:blip r:embed="rId3"/>
          <a:stretch/>
        </p:blipFill>
        <p:spPr>
          <a:xfrm rot="21084600">
            <a:off x="428760" y="3499920"/>
            <a:ext cx="4000320" cy="2857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riba.jpg"/>
          <p:cNvPicPr/>
          <p:nvPr/>
        </p:nvPicPr>
        <p:blipFill>
          <a:blip r:embed="rId4"/>
          <a:stretch/>
        </p:blipFill>
        <p:spPr>
          <a:xfrm rot="307200">
            <a:off x="4571640" y="3642840"/>
            <a:ext cx="392904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8102520" cy="43765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2"/>
          <p:cNvSpPr/>
          <p:nvPr/>
        </p:nvSpPr>
        <p:spPr>
          <a:xfrm>
            <a:off x="2419200" y="5361120"/>
            <a:ext cx="17352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O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3"/>
          <a:stretch/>
        </p:blipFill>
        <p:spPr>
          <a:xfrm>
            <a:off x="5765760" y="5221440"/>
            <a:ext cx="2519280" cy="13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9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1838175400491 0 L -0.645666576160739 0 E">
                                      <p:cBhvr>
                                        <p:cTn id="52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5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1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4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3708360" y="928800"/>
            <a:ext cx="4578480" cy="50004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"/>
          <p:cNvSpPr/>
          <p:nvPr/>
        </p:nvSpPr>
        <p:spPr>
          <a:xfrm>
            <a:off x="0" y="2924280"/>
            <a:ext cx="4284720" cy="52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0f6fc6"/>
                </a:solidFill>
                <a:latin typeface="Times New Roman"/>
              </a:rPr>
              <a:t>CROCODI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0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18517512897096 0.078740157480315 L -0.567909313060005 0.078740157480315 E">
                                      <p:cBhvr>
                                        <p:cTn id="73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644076057643 -0.0420997375328084 L -0.570239622231549 -0.0420997375328084 E">
                                      <p:cBhvr>
                                        <p:cTn id="76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88031496062992 -0.186561679790026 E">
                                      <p:cBhvr>
                                        <p:cTn id="79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2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2625840" y="1071720"/>
            <a:ext cx="5661000" cy="47862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468360" y="1844640"/>
            <a:ext cx="50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0f6fc6"/>
                </a:solidFill>
                <a:latin typeface="Times New Roman"/>
              </a:rPr>
              <a:t>DUC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23385826771654 0.294173228346457 E">
                                      <p:cBhvr>
                                        <p:cTn id="88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44330708661417 0.320419947506562 E">
                                      <p:cBhvr>
                                        <p:cTn id="9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5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k-MK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286240"/>
          </a:xfrm>
          <a:prstGeom prst="rect">
            <a:avLst/>
          </a:prstGeom>
          <a:ln w="0">
            <a:noFill/>
          </a:ln>
        </p:spPr>
      </p:pic>
      <p:sp>
        <p:nvSpPr>
          <p:cNvPr id="246" name="WordArt 3"/>
          <p:cNvSpPr txBox="1"/>
          <p:nvPr/>
        </p:nvSpPr>
        <p:spPr>
          <a:xfrm>
            <a:off x="971640" y="5661000"/>
            <a:ext cx="1504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3419640" y="189000"/>
            <a:ext cx="218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dbf5f9"/>
                </a:solidFill>
                <a:latin typeface="Times New Roman"/>
              </a:rPr>
              <a:t>STOR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k-MK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8429400" cy="50576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2160720" y="6024600"/>
            <a:ext cx="2679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2238480" y="404640"/>
            <a:ext cx="466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e2d700"/>
                </a:solidFill>
                <a:latin typeface="Times New Roman"/>
              </a:rPr>
              <a:t>BAMBOO CAN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9dd9"/>
                </a:solidFill>
                <a:latin typeface="Times New Roman"/>
              </a:rPr>
              <a:t>WHAT IS AN ENVIRONMENT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097080" cy="441828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5"/>
          <p:cNvSpPr/>
          <p:nvPr/>
        </p:nvSpPr>
        <p:spPr>
          <a:xfrm>
            <a:off x="3708360" y="1844640"/>
            <a:ext cx="4929120" cy="2071800"/>
          </a:xfrm>
          <a:prstGeom prst="cloudCallout">
            <a:avLst>
              <a:gd name="adj1" fmla="val -56634"/>
              <a:gd name="adj2" fmla="val 120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mk-MK" sz="1800" spc="-1" strike="noStrike">
                <a:solidFill>
                  <a:srgbClr val="ffffff"/>
                </a:solidFill>
                <a:latin typeface="Arial"/>
              </a:rPr>
              <a:t>ЖИВОТНА  СРЕДИНА  Е        </a:t>
            </a:r>
            <a:r>
              <a:rPr b="0" lang="mk-M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mk-M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An environment is a place where there are conditions for life for the plants and the anima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THINK AND ANSWER THE FOLLOWING QUESTIONS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Who lives in the wat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Which animals live in the wat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Which plants live in the wat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How do aquatic animals move in their environmen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a956"/>
                </a:solidFill>
                <a:latin typeface="Constantia"/>
              </a:rPr>
              <a:t>LET’S THINK!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d700"/>
                </a:solidFill>
                <a:latin typeface="Constantia"/>
              </a:rPr>
              <a:t>WHO LIVES IN THE WATER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Picture 13" descr="question-mark.jpg"/>
          <p:cNvPicPr/>
          <p:nvPr/>
        </p:nvPicPr>
        <p:blipFill>
          <a:blip r:embed="rId1"/>
          <a:stretch/>
        </p:blipFill>
        <p:spPr>
          <a:xfrm rot="20863800">
            <a:off x="755280" y="980640"/>
            <a:ext cx="2303640" cy="2116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kids.jpg"/>
          <p:cNvPicPr/>
          <p:nvPr/>
        </p:nvPicPr>
        <p:blipFill>
          <a:blip r:embed="rId2"/>
          <a:stretch/>
        </p:blipFill>
        <p:spPr>
          <a:xfrm rot="680400">
            <a:off x="5149800" y="937800"/>
            <a:ext cx="28717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FLOWER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85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LOTU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3" name="Picture 3" descr="lotos.jpg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PLANT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PLANT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LGA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8928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LGA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gistered User</dc:creator>
  <dc:description/>
  <dc:language>en-US</dc:language>
  <cp:lastModifiedBy>User</cp:lastModifiedBy>
  <dcterms:modified xsi:type="dcterms:W3CDTF">2011-12-14T18:31:58Z</dcterms:modified>
  <cp:revision>20</cp:revision>
  <dc:subject/>
  <dc:title>Slide 1</dc:title>
</cp:coreProperties>
</file>